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7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E9C2-C5A4-4522-928D-A411F8682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CCD9-717A-4B13-96E6-A6FF5892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3D97-C760-496D-A9FC-A19C44599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3552-5A68-490B-AF12-F375137B8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3DC10-DEDB-4E40-869A-819A3B527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6E99-58A0-4AB9-8B50-E9234F31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D039-FC23-481E-9A88-1DECF024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50CED-FF29-4BF5-A0CD-AE8B1DF9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62A4-002C-4836-B502-AA36CC8D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B6E5-2ABF-4774-A6B0-E0752192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7AE2-DB65-45B0-95A9-0488FD8C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C282-6E07-404A-B5A8-15780346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9B897-4AB1-429D-9EF1-E62921E5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E35B-2BB2-4757-9283-C28A8824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B666-5060-423E-B59B-CFA66D8A7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6CCD-4260-42C9-B3A9-EDD8353AB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22BE-1F67-4FB9-810D-4939888C0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D4BB-FB19-4D11-A932-420A109D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252E-BA4A-4587-BFDE-BAF7EE03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4F49-1BC0-4AE3-8F49-634FD750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47ED-CEA0-42C5-ACC8-80BFC0ED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F8E1-7E39-422E-8BCB-87819111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345F-DA4E-43CE-9DAD-9E9E430D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F69A-303B-4C6E-9F33-BD97BD26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7970-FE6C-4CA9-9D3F-7EDCD107880D}" type="slidenum">
              <a:rPr b="0" lang="ca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D9F0-3CD8-4498-B554-83A8FCB96487}" type="slidenum">
              <a:rPr b="0" lang="ca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images.google.cat/imgres?imgurl=http://4.bp.blogspot.com/_laW9j0fVAas/R9_7u6aHI5I/AAAAAAAABpw/78tGDErsl9M/s320/DALASI.jpg&amp;imgrefurl=http://billetesymonedas.blogspot.com/2008/03/dalasi-moneda-de-gambia.html&amp;usg=__R3ky6mLgujksYVi99qUvALaa3Sg=&amp;h=250&amp;w=250&amp;sz=8&amp;hl=ca&amp;start=2&amp;um=1&amp;tbnid=wJgQr0kWt14vfM:&amp;tbnh=111&amp;tbnw=111&amp;prev=/images%3Fq%3DMONEDA%2BDE%2BGAMBIA%26hl%3Dca%26um%3D1" TargetMode="External"/><Relationship Id="rId3" Type="http://schemas.openxmlformats.org/officeDocument/2006/relationships/image" Target="../media/image20.jpeg"/><Relationship Id="rId4" Type="http://schemas.openxmlformats.org/officeDocument/2006/relationships/hyperlink" Target="http://images.google.cat/imgres?imgurl=http://www.infogambia.com/Historia/bandera-gambia.gif&amp;imgrefurl=http://www.infogambia.com/Historia/Historia.htm&amp;usg=__y0Q6nETRFHWrupR4UbZZ8MkYhTQ=&amp;h=333&amp;w=500&amp;sz=3&amp;hl=ca&amp;start=2&amp;um=1&amp;tbnid=0xiCv4EyQTyQqM:&amp;tbnh=87&amp;tbnw=130&amp;prev=/images%3Fq%3Dbandera%2Bde%2Bgambia%26hl%3Dca%26sa%3DX%26um%3D1" TargetMode="External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images.google.com/imgres?imgurl=http://planesretallsforans.googlepages.com/00peix.jpg/00peix-full%3Binit:.jpg&amp;imgrefurl=http://planesretallsforans.googlepages.com/receptari6&amp;usg=__maLl6pb3_YMYCAuS5KY4LpaZgiU=&amp;h=300&amp;w=400&amp;sz=24&amp;hl=ca&amp;start=5&amp;tbnid=xcTreH5dpXL0kM:&amp;tbnh=93&amp;tbnw=124&amp;prev=/images%3Fq%3DPEIX%26gbv%3D2%26hl%3Dca%26sa%3DG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at/imgres?imgurl=http://www.mpt.es/ministerio/delegaciones_gobierno/delegaciones/galicia/actualidad/notas_de_prensa/notas/2008/12/2008_12_23/image_es/vaca.jpeg&amp;imgrefurl=http://www.mpt.es/ministerio/delegaciones_gobierno/delegaciones/galicia/actualidad/notas_de_prensa/notas/2008/12.html&amp;usg=__9VGtyX_fLbLz8M3a5YIAKIOFBCE=&amp;h=283&amp;w=400&amp;sz=49&amp;hl=ca&amp;start=3&amp;um=1&amp;tbnid=Q2D0-Ukyub5GFM:&amp;tbnh=88&amp;tbnw=124&amp;prev=/images%3Fq%3DVACA%26imgtbs%3Ds%26hl%3Dca%26sa%3DG%26um%3D1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images.google.cat/imgres?imgurl=http://www.naciodigital.cat/blocdefotos/fotos/gran/140.jpg&amp;imgrefurl=http://www.naciodigital.cat/blocdefotos/%3Fseccio%3Dnoticies%26accio%3Dveure%26id%3D140&amp;usg=__HtLnns4vVNeaGAye4yuCUXobn4Q=&amp;h=602&amp;w=800&amp;sz=474&amp;hl=ca&amp;start=2&amp;um=1&amp;tbnid=1LXRy23KajcDgM:&amp;tbnh=108&amp;tbnw=143&amp;prev=/images%3Fq%3DGALLINES%26ndsp%3D20%26hl%3Dca%26sa%3DN%26um%3D1" TargetMode="External"/><Relationship Id="rId4" Type="http://schemas.openxmlformats.org/officeDocument/2006/relationships/image" Target="../media/image25.jpeg"/><Relationship Id="rId5" Type="http://schemas.openxmlformats.org/officeDocument/2006/relationships/hyperlink" Target="http://images.google.cat/imgres?imgurl=http://www.anoiadiari.cat/imatges/noticia/xai.png&amp;imgrefurl=http://www.anoiadiari.cat/noticia/626/la-festa-el-xai&amp;usg=__tPsUufv8U_zilHhn63G916GIqL8=&amp;h=339&amp;w=455&amp;sz=244&amp;hl=ca&amp;start=1&amp;um=1&amp;tbnid=UPJhrYnlLF2V5M:&amp;tbnh=95&amp;tbnw=128&amp;prev=/images%3Fq%3Dxai%26hl%3Dca%26um%3D1" TargetMode="External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at/imgres?imgurl=http://www.accessgambia.com/information/large/sarahule-4.jpg&amp;imgrefurl=http://www.accessgambia.com/information/gambia-photo-gallery.html&amp;usg=__dlAWJnmyw6bPtE-WhR7njUY8l20=&amp;h=500&amp;w=302&amp;sz=34&amp;hl=ca&amp;start=2&amp;um=1&amp;tbnid=OzcQ8qCoMB26cM:&amp;tbnh=130&amp;tbnw=79&amp;prev=/images%3Fq%3DSONINKE%26hl%3Dca%26um%3D1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at/imgres?imgurl=http://comprenderelayer.files.wordpress.com/2008/11/esclavos2.jpg&amp;imgrefurl=http://comprenderelayer.wordpress.com/2008/11/&amp;usg=__yXtlKvIbvHk-X9UgWtlfwWRuJzM=&amp;h=286&amp;w=382&amp;sz=15&amp;hl=ca&amp;start=16&amp;um=1&amp;tbnid=R3ZcxhBPBt0MIM:&amp;tbnh=92&amp;tbnw=123&amp;prev=/images%3Fq%3Desclavos%26hl%3Dca%26sa%3DG%26um%3D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s.wikipedia.org/wiki/Archivo:Gambia_President_Yahya_Jammeh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images.google.com/imgres?imgurl=http://servicios.laverdad.es/nuestratierra/nt10102008/imag/002D5CTGP3_1.jpg&amp;imgrefurl=http://servicios.laverdad.es/nuestratierra/nt10102008/suscr/nec3.htm&amp;usg=__nT45w00Byg4gjzNtZ7cy_Gup-Es=&amp;h=319&amp;w=450&amp;sz=39&amp;hl=ca&amp;start=19&amp;um=1&amp;tbnid=lpbc5QcgDINA0M:&amp;tbnh=90&amp;tbnw=127&amp;prev=/images?q=FAUNA+DE+GAMBIA&amp;hl=ca&amp;lr=&amp;rlz=1G1GGLQ_ESES323&amp;sa=N&amp;um=1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images.google.com/imgres?imgurl=http://www.franjadeponent.cat/gambia/fauna.jpg&amp;imgrefurl=http://www.franjadeponent.cat/gambia.htm&amp;usg=__yFZplE26hztypQLgUsbHJxL5r_E=&amp;h=225&amp;w=300&amp;sz=60&amp;hl=ca&amp;start=24&amp;um=1&amp;tbnid=de8Mue5M11VBTM:&amp;tbnh=87&amp;tbnw=116&amp;prev=/images?q=FAUNA+DE+GAMBIA&amp;ndsp=20&amp;hl=ca&amp;lr=&amp;rlz=1G1GGLQ_ESES323&amp;sa=N&amp;start=20&amp;um=1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images.google.com/imgres?imgurl=http://farm2.static.flickr.com/1026/1348948125_44a2b124f6_m.jpg&amp;imgrefurl=http://fiveprime.org/hivemind/Tags/bird,natureza&amp;usg=__3C0te2ogwrl1-pEU1RZ7oTX-1DU=&amp;h=240&amp;w=180&amp;sz=19&amp;hl=ca&amp;start=6&amp;um=1&amp;tbnid=OesI52SUsmbm_M:&amp;tbnh=110&amp;tbnw=83&amp;prev=/images?q=AVES+DE+GAMBIA&amp;hl=ca&amp;lr=&amp;rlz=1G1GGLQ_ESES323&amp;sa=G&amp;um=1" TargetMode="External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images.google.com/imgres?imgurl=http://wikifaunia.com/images/7/7c/Chimpance.gif&amp;imgrefurl=http://wikifaunia.com/index.php/Chimpance&amp;usg=__aG5RMMwNF5_oarw7cuSBmDFfJyg=&amp;h=427&amp;w=398&amp;sz=122&amp;hl=ca&amp;start=1&amp;um=1&amp;tbnid=D_4xoxC-wNLvMM:&amp;tbnh=126&amp;tbnw=117&amp;prev=/images?q=CHIMPANCE&amp;hl=ca&amp;lr=&amp;rlz=1G1GGLQ_ESES323&amp;sa=G&amp;um=1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images.google.com/imgres?imgurl=http://www.tuswallpapersgratis.com/images/wallpapers/Hipopotamo_1024x768-888373.jpeg&amp;imgrefurl=http://www.tuswallpapersgratis.com/wallpaper/Hipopotamo/&amp;usg=__VzSFFfwYejAM6L5TPthjy3a6Ol8=&amp;h=768&amp;w=1024&amp;sz=310&amp;hl=ca&amp;start=6&amp;um=1&amp;tbnid=Te_W_8EKLY92lM:&amp;tbnh=113&amp;tbnw=150&amp;prev=/images?q=HIPOPOTAMO&amp;hl=ca&amp;lr=&amp;rlz=1G1GGLQ_ESES323&amp;sa=G&amp;um=1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1388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727280" y="4022280"/>
            <a:ext cx="6229440" cy="16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3200" spc="-1" strike="noStrike">
              <a:solidFill>
                <a:srgbClr val="898989"/>
              </a:solidFill>
              <a:latin typeface="Arial"/>
            </a:endParaRPr>
          </a:p>
        </p:txBody>
      </p:sp>
      <p:sp>
        <p:nvSpPr>
          <p:cNvPr id="99" name="WordArt 6"/>
          <p:cNvSpPr txBox="1"/>
          <p:nvPr/>
        </p:nvSpPr>
        <p:spPr>
          <a:xfrm>
            <a:off x="1547640" y="836640"/>
            <a:ext cx="61200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AMBI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835280" y="2674800"/>
            <a:ext cx="4608360" cy="3448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357440" y="244440"/>
            <a:ext cx="44845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cc6600"/>
                </a:solidFill>
                <a:latin typeface="Arial Black"/>
              </a:rPr>
              <a:t>PARCS NATURALS</a:t>
            </a:r>
            <a:br>
              <a:rPr sz="4000"/>
            </a:br>
            <a:endParaRPr b="1" lang="en-US" sz="40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PARC NATU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RIU GÀMB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Parc Nacional de Bijil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3 Imagen" descr="RIU.jpg"/>
          <p:cNvPicPr/>
          <p:nvPr/>
        </p:nvPicPr>
        <p:blipFill>
          <a:blip r:embed="rId1"/>
          <a:stretch/>
        </p:blipFill>
        <p:spPr>
          <a:xfrm>
            <a:off x="4786200" y="2643120"/>
            <a:ext cx="4000680" cy="3000600"/>
          </a:xfrm>
          <a:prstGeom prst="rect">
            <a:avLst/>
          </a:prstGeom>
          <a:ln w="0">
            <a:noFill/>
          </a:ln>
        </p:spPr>
      </p:pic>
      <p:pic>
        <p:nvPicPr>
          <p:cNvPr id="131" name="5 Imagen" descr="plantes.jpg"/>
          <p:cNvPicPr/>
          <p:nvPr/>
        </p:nvPicPr>
        <p:blipFill>
          <a:blip r:embed="rId2"/>
          <a:stretch/>
        </p:blipFill>
        <p:spPr>
          <a:xfrm>
            <a:off x="571680" y="42876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cc6600"/>
                </a:solidFill>
                <a:latin typeface="Arial Black"/>
              </a:rPr>
              <a:t>PLATGES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33" name="3 Marcador de contenido" descr="PLATJA.jpg"/>
          <p:cNvPicPr/>
          <p:nvPr/>
        </p:nvPicPr>
        <p:blipFill>
          <a:blip r:embed="rId1"/>
          <a:stretch/>
        </p:blipFill>
        <p:spPr>
          <a:xfrm>
            <a:off x="285840" y="121428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134" name="3 Imagen" descr="P1010193.jpg"/>
          <p:cNvPicPr/>
          <p:nvPr/>
        </p:nvPicPr>
        <p:blipFill>
          <a:blip r:embed="rId2"/>
          <a:stretch/>
        </p:blipFill>
        <p:spPr>
          <a:xfrm>
            <a:off x="3643200" y="1214280"/>
            <a:ext cx="5035680" cy="407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250" autoRev="1" fill="hold"/>
                                        <p:tgtEl>
                                          <p:spTgt spid="1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71280" y="244440"/>
            <a:ext cx="60706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cc6600"/>
                </a:solidFill>
                <a:latin typeface="Arial Black"/>
              </a:rPr>
              <a:t>+DADES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CAPITAL: BANJ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1.709.000 HABI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MONEDA:DALA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EL CLIMA ÉS SUAU, NI MOLT FRED NI MOLTA CAL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3 Marcador de contenido" descr="BANJUL.jpg"/>
          <p:cNvPicPr/>
          <p:nvPr/>
        </p:nvPicPr>
        <p:blipFill>
          <a:blip r:embed="rId1"/>
          <a:stretch/>
        </p:blipFill>
        <p:spPr>
          <a:xfrm>
            <a:off x="4572000" y="1125360"/>
            <a:ext cx="4356000" cy="2543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DALASI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80000" y="4005360"/>
            <a:ext cx="1057320" cy="10573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116000" y="620640"/>
            <a:ext cx="1238400" cy="8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A QUÈ ES DEDICA LA GENT?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41" name="3 Imagen" descr="CACA.jpg"/>
          <p:cNvPicPr/>
          <p:nvPr/>
        </p:nvPicPr>
        <p:blipFill>
          <a:blip r:embed="rId1"/>
          <a:stretch/>
        </p:blipFill>
        <p:spPr>
          <a:xfrm>
            <a:off x="1285920" y="3357720"/>
            <a:ext cx="3024000" cy="2286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http://t3.gstatic.com/images?q=tbn:xcTreH5dpXL0kM:http://planesretallsforans.googlepages.com/00peix.jpg/00peix-full%3Binit: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75400" y="3400560"/>
            <a:ext cx="3151080" cy="2247840"/>
          </a:xfrm>
          <a:prstGeom prst="rect">
            <a:avLst/>
          </a:prstGeom>
          <a:ln w="0">
            <a:noFill/>
          </a:ln>
        </p:spPr>
      </p:pic>
      <p:sp>
        <p:nvSpPr>
          <p:cNvPr id="143" name="6 CuadroTexto"/>
          <p:cNvSpPr/>
          <p:nvPr/>
        </p:nvSpPr>
        <p:spPr>
          <a:xfrm>
            <a:off x="2202480" y="1857240"/>
            <a:ext cx="511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GRICULTURA I RAMADE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N CACAHUETS I PEIX  A  ALTRES PAÏS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cc6600"/>
                </a:solidFill>
                <a:latin typeface="Arial Black"/>
              </a:rPr>
              <a:t>ANIMALS DE GRANJA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5" descr="vac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1557360"/>
            <a:ext cx="2520720" cy="1789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14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35640" y="3933720"/>
            <a:ext cx="2519280" cy="2016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xai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1280" y="3716280"/>
            <a:ext cx="3060720" cy="21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ETNIES I IDIOMES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0004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BAMANA,DIOLA,FULAKUNDA,FULANE 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KRIO,MANDINGO,MANJAK,SARAHUL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SERER,TORO,TUKULOR,WOL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L’IDIOMA OFICIAL É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L’ANGLÈ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6 Imagen" descr="images.jpg"/>
          <p:cNvPicPr/>
          <p:nvPr/>
        </p:nvPicPr>
        <p:blipFill>
          <a:blip r:embed="rId1"/>
          <a:stretch/>
        </p:blipFill>
        <p:spPr>
          <a:xfrm>
            <a:off x="5724360" y="3284640"/>
            <a:ext cx="2857680" cy="336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SARAHULE O SONINKÉ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837720" y="1268280"/>
            <a:ext cx="80074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ÉS DE LES MÉS ANTIGUES D’ÀF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VAN FUNDAR L’IMPERI DE GHANA (S V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NOSTRE IDIOMA ES PARLA, NO S’ESCRI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MEVA ALD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ÉS SAHOKUN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6" descr="sarahule-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4000" y="3500280"/>
            <a:ext cx="2232360" cy="29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776400" y="244440"/>
            <a:ext cx="50655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OM VIU LA GEN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56" name="3 Marcador de contenido" descr="MARE.jpg"/>
          <p:cNvPicPr/>
          <p:nvPr/>
        </p:nvPicPr>
        <p:blipFill>
          <a:blip r:embed="rId1"/>
          <a:stretch/>
        </p:blipFill>
        <p:spPr>
          <a:xfrm>
            <a:off x="1000080" y="500040"/>
            <a:ext cx="2814840" cy="2197080"/>
          </a:xfrm>
          <a:prstGeom prst="rect">
            <a:avLst/>
          </a:prstGeom>
          <a:ln w="0">
            <a:noFill/>
          </a:ln>
        </p:spPr>
      </p:pic>
      <p:pic>
        <p:nvPicPr>
          <p:cNvPr id="157" name="5 Imagen" descr="MERCAT.jpg"/>
          <p:cNvPicPr/>
          <p:nvPr/>
        </p:nvPicPr>
        <p:blipFill>
          <a:blip r:embed="rId2"/>
          <a:stretch/>
        </p:blipFill>
        <p:spPr>
          <a:xfrm>
            <a:off x="3571920" y="3357720"/>
            <a:ext cx="4619520" cy="3178080"/>
          </a:xfrm>
          <a:prstGeom prst="rect">
            <a:avLst/>
          </a:prstGeom>
          <a:ln w="0">
            <a:noFill/>
          </a:ln>
        </p:spPr>
      </p:pic>
      <p:sp>
        <p:nvSpPr>
          <p:cNvPr id="158" name="4 CuadroTexto"/>
          <p:cNvSpPr/>
          <p:nvPr/>
        </p:nvSpPr>
        <p:spPr>
          <a:xfrm>
            <a:off x="1643040" y="5357880"/>
            <a:ext cx="128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ERCAT  ES A L’AIRE LLI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65280" y="2081160"/>
            <a:ext cx="35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ELS NENS I NENES SON MO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IMPORTANTA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8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ESCOLES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826560" y="1341360"/>
            <a:ext cx="800748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ÉS OBLIGATÒRIA. HI VA UN DE CADA TRES NENS O NE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3 Imagen" descr="escola.jpg"/>
          <p:cNvPicPr/>
          <p:nvPr/>
        </p:nvPicPr>
        <p:blipFill>
          <a:blip r:embed="rId1"/>
          <a:stretch/>
        </p:blipFill>
        <p:spPr>
          <a:xfrm>
            <a:off x="1619280" y="2565360"/>
            <a:ext cx="5130720" cy="38480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362000" y="388152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L’ESC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EL 70% NO SABEN LLEGIR NI ESCRI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OLTES CARRETERES 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TAN ASFALTA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GENT NO PASSA GAN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ERÒ FALTEN MOLTES CO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877080" y="2997360"/>
            <a:ext cx="2044800" cy="153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Ntojo ni hatu nyi gambia  nga mund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2997360"/>
            <a:ext cx="48294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MENJAR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68" name="4 Imagen" descr="MILL.jpg"/>
          <p:cNvPicPr/>
          <p:nvPr/>
        </p:nvPicPr>
        <p:blipFill>
          <a:blip r:embed="rId1"/>
          <a:stretch/>
        </p:blipFill>
        <p:spPr>
          <a:xfrm>
            <a:off x="1258920" y="1844640"/>
            <a:ext cx="1735200" cy="1295280"/>
          </a:xfrm>
          <a:prstGeom prst="rect">
            <a:avLst/>
          </a:prstGeom>
          <a:ln w="0">
            <a:noFill/>
          </a:ln>
        </p:spPr>
      </p:pic>
      <p:pic>
        <p:nvPicPr>
          <p:cNvPr id="169" name="5 Imagen" descr="MANDIOCA.jpg"/>
          <p:cNvPicPr/>
          <p:nvPr/>
        </p:nvPicPr>
        <p:blipFill>
          <a:blip r:embed="rId2"/>
          <a:stretch/>
        </p:blipFill>
        <p:spPr>
          <a:xfrm>
            <a:off x="6516720" y="2060640"/>
            <a:ext cx="1501920" cy="934920"/>
          </a:xfrm>
          <a:prstGeom prst="rect">
            <a:avLst/>
          </a:prstGeom>
          <a:ln w="0">
            <a:noFill/>
          </a:ln>
        </p:spPr>
      </p:pic>
      <p:pic>
        <p:nvPicPr>
          <p:cNvPr id="170" name="6 Imagen" descr="DONES.jpg"/>
          <p:cNvPicPr/>
          <p:nvPr/>
        </p:nvPicPr>
        <p:blipFill>
          <a:blip r:embed="rId3"/>
          <a:stretch/>
        </p:blipFill>
        <p:spPr>
          <a:xfrm>
            <a:off x="3132000" y="2492280"/>
            <a:ext cx="2952720" cy="2214720"/>
          </a:xfrm>
          <a:prstGeom prst="rect">
            <a:avLst/>
          </a:prstGeom>
          <a:ln w="0">
            <a:noFill/>
          </a:ln>
        </p:spPr>
      </p:pic>
      <p:pic>
        <p:nvPicPr>
          <p:cNvPr id="171" name="7 Imagen" descr="TIGO.jpg"/>
          <p:cNvPicPr/>
          <p:nvPr/>
        </p:nvPicPr>
        <p:blipFill>
          <a:blip r:embed="rId4"/>
          <a:stretch/>
        </p:blipFill>
        <p:spPr>
          <a:xfrm>
            <a:off x="1258920" y="4149720"/>
            <a:ext cx="1441440" cy="12333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9"/>
          <p:cNvSpPr/>
          <p:nvPr/>
        </p:nvSpPr>
        <p:spPr>
          <a:xfrm>
            <a:off x="1673280" y="31608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MI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6858360" y="294480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MANDIO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6791040" y="539280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MAN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1241280" y="56088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BL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12 Marcador de contenido" descr="MANGO.jpg"/>
          <p:cNvPicPr/>
          <p:nvPr/>
        </p:nvPicPr>
        <p:blipFill>
          <a:blip r:embed="rId5"/>
          <a:stretch/>
        </p:blipFill>
        <p:spPr>
          <a:xfrm>
            <a:off x="6927840" y="3929040"/>
            <a:ext cx="1793880" cy="1521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474000" y="503244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CU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OM SÓN LES CASES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79" name="5 Marcador de contenido" descr="1.jpg"/>
          <p:cNvPicPr/>
          <p:nvPr/>
        </p:nvPicPr>
        <p:blipFill>
          <a:blip r:embed="rId1"/>
          <a:stretch/>
        </p:blipFill>
        <p:spPr>
          <a:xfrm>
            <a:off x="4772160" y="2409840"/>
            <a:ext cx="3522600" cy="2511360"/>
          </a:xfrm>
          <a:prstGeom prst="rect">
            <a:avLst/>
          </a:prstGeom>
          <a:ln w="0">
            <a:noFill/>
          </a:ln>
        </p:spPr>
      </p:pic>
      <p:pic>
        <p:nvPicPr>
          <p:cNvPr id="180" name="6 Imagen" descr="HOUSE.jpg"/>
          <p:cNvPicPr/>
          <p:nvPr/>
        </p:nvPicPr>
        <p:blipFill>
          <a:blip r:embed="rId2"/>
          <a:stretch/>
        </p:blipFill>
        <p:spPr>
          <a:xfrm>
            <a:off x="331920" y="2143080"/>
            <a:ext cx="3627360" cy="27147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235160" y="5032440"/>
            <a:ext cx="767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ALGUNES DE MAONS                          ALTRES DE PALLA I UNA SO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HABITACI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</a:t>
            </a: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SOSTRE ROD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ELS CARRERS, LA GEN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83" name="4 Imagen" descr="fh105.jpg"/>
          <p:cNvPicPr/>
          <p:nvPr/>
        </p:nvPicPr>
        <p:blipFill>
          <a:blip r:embed="rId1"/>
          <a:stretch/>
        </p:blipFill>
        <p:spPr>
          <a:xfrm>
            <a:off x="5164200" y="1928880"/>
            <a:ext cx="2894040" cy="3857400"/>
          </a:xfrm>
          <a:prstGeom prst="rect">
            <a:avLst/>
          </a:prstGeom>
          <a:ln w="0">
            <a:noFill/>
          </a:ln>
        </p:spPr>
      </p:pic>
      <p:pic>
        <p:nvPicPr>
          <p:cNvPr id="184" name="3 Marcador de contenido" descr="taxi.jpg"/>
          <p:cNvPicPr/>
          <p:nvPr/>
        </p:nvPicPr>
        <p:blipFill>
          <a:blip r:embed="rId2"/>
          <a:stretch/>
        </p:blipFill>
        <p:spPr>
          <a:xfrm>
            <a:off x="0" y="1773360"/>
            <a:ext cx="4943520" cy="31874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0200" y="532116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COTX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057640" y="611352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ARBRES I LA PLAT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88" name="3 Marcador de contenido" descr="images.jpg"/>
          <p:cNvPicPr/>
          <p:nvPr/>
        </p:nvPicPr>
        <p:blipFill>
          <a:blip r:embed="rId1"/>
          <a:stretch/>
        </p:blipFill>
        <p:spPr>
          <a:xfrm>
            <a:off x="285840" y="1785960"/>
            <a:ext cx="2928960" cy="3882960"/>
          </a:xfrm>
          <a:prstGeom prst="rect">
            <a:avLst/>
          </a:prstGeom>
          <a:ln w="0">
            <a:noFill/>
          </a:ln>
        </p:spPr>
      </p:pic>
      <p:pic>
        <p:nvPicPr>
          <p:cNvPr id="189" name="6 Marcador de contenido" descr="com viu la gent 1.jpg"/>
          <p:cNvPicPr/>
          <p:nvPr/>
        </p:nvPicPr>
        <p:blipFill>
          <a:blip r:embed="rId2"/>
          <a:stretch/>
        </p:blipFill>
        <p:spPr>
          <a:xfrm>
            <a:off x="4040280" y="2671920"/>
            <a:ext cx="4680000" cy="27781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36920" y="611352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PLAT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408920" y="58244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AGAFEN AIGUA DE PO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93" name="3 Marcador de contenido" descr="gambia%20049.jpg"/>
          <p:cNvPicPr/>
          <p:nvPr/>
        </p:nvPicPr>
        <p:blipFill>
          <a:blip r:embed="rId1"/>
          <a:stretch/>
        </p:blipFill>
        <p:spPr>
          <a:xfrm>
            <a:off x="428760" y="357120"/>
            <a:ext cx="4095720" cy="30718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http://www.infogambia.com/Fotos%20de%20Gambia/Foto%20Camp/34.jpg"/>
          <p:cNvPicPr/>
          <p:nvPr/>
        </p:nvPicPr>
        <p:blipFill>
          <a:blip r:embed="rId2"/>
          <a:stretch/>
        </p:blipFill>
        <p:spPr>
          <a:xfrm>
            <a:off x="4286160" y="3643200"/>
            <a:ext cx="4381560" cy="28386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520920" y="3736800"/>
            <a:ext cx="33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PORTEN EL MENJAR AL C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34720" y="316080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ELS NENS TAMBE TREBAL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98" name="3 Marcador de contenido" descr="24A_0159.jpg"/>
          <p:cNvPicPr/>
          <p:nvPr/>
        </p:nvPicPr>
        <p:blipFill>
          <a:blip r:embed="rId1"/>
          <a:stretch/>
        </p:blipFill>
        <p:spPr>
          <a:xfrm>
            <a:off x="500040" y="285840"/>
            <a:ext cx="4714920" cy="3146400"/>
          </a:xfrm>
          <a:prstGeom prst="rect">
            <a:avLst/>
          </a:prstGeom>
          <a:ln w="0">
            <a:noFill/>
          </a:ln>
        </p:spPr>
      </p:pic>
      <p:pic>
        <p:nvPicPr>
          <p:cNvPr id="199" name="4 Imagen" descr="_29_0030.jpg"/>
          <p:cNvPicPr/>
          <p:nvPr/>
        </p:nvPicPr>
        <p:blipFill>
          <a:blip r:embed="rId2"/>
          <a:stretch/>
        </p:blipFill>
        <p:spPr>
          <a:xfrm>
            <a:off x="4643280" y="3595680"/>
            <a:ext cx="3783240" cy="25239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950760" y="3665520"/>
            <a:ext cx="349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A VEGADES VIATGEM AMB 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CARR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60200" y="6329520"/>
            <a:ext cx="27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MERCAT I AUTOBU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RELIGIÓ MUSULMANA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203" name="3 Marcador de contenido" descr="392.jpg"/>
          <p:cNvPicPr/>
          <p:nvPr/>
        </p:nvPicPr>
        <p:blipFill>
          <a:blip r:embed="rId1"/>
          <a:stretch/>
        </p:blipFill>
        <p:spPr>
          <a:xfrm>
            <a:off x="2424240" y="2274840"/>
            <a:ext cx="4711680" cy="33638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610000" y="5897520"/>
            <a:ext cx="24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RESEM 22 VEG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FESTES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206" name="4 Marcador de contenido" descr="DANÇA.jpg"/>
          <p:cNvPicPr/>
          <p:nvPr/>
        </p:nvPicPr>
        <p:blipFill>
          <a:blip r:embed="rId1"/>
          <a:stretch/>
        </p:blipFill>
        <p:spPr>
          <a:xfrm>
            <a:off x="4700520" y="2065320"/>
            <a:ext cx="3714840" cy="35272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332000" y="2565360"/>
            <a:ext cx="12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ca-ES" sz="2400" spc="-1" strike="noStrike">
                <a:solidFill>
                  <a:srgbClr val="ffffff"/>
                </a:solidFill>
                <a:latin typeface="Arial"/>
                <a:ea typeface="Arial"/>
              </a:rPr>
              <a:t>S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9286400">
            <a:off x="1980720" y="2923560"/>
            <a:ext cx="196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Arial"/>
                <a:ea typeface="Arial"/>
              </a:rPr>
              <a:t>CASA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Arial"/>
                <a:ea typeface="Arial"/>
              </a:rPr>
              <a:t>NAIX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OSTUMS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LA ROBA ES DI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CUINEM A FO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3 Imagen" descr="__6_0007.jpg"/>
          <p:cNvPicPr/>
          <p:nvPr/>
        </p:nvPicPr>
        <p:blipFill>
          <a:blip r:embed="rId1"/>
          <a:stretch/>
        </p:blipFill>
        <p:spPr>
          <a:xfrm>
            <a:off x="5940360" y="2492280"/>
            <a:ext cx="2479680" cy="3365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8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258920" y="692280"/>
            <a:ext cx="7272360" cy="54543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528560" y="6113520"/>
            <a:ext cx="22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HATU SAHO SA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SITUACIÓ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05" name="5 Marcador de contenido" descr="GAMBIE.gif"/>
          <p:cNvPicPr/>
          <p:nvPr/>
        </p:nvPicPr>
        <p:blipFill>
          <a:blip r:embed="rId1"/>
          <a:stretch/>
        </p:blipFill>
        <p:spPr>
          <a:xfrm>
            <a:off x="1979640" y="1341360"/>
            <a:ext cx="5200560" cy="5200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cc6600"/>
                </a:solidFill>
                <a:latin typeface="Arial Black"/>
              </a:rPr>
              <a:t>ANICUNYI LUIS I JAYARE                 ARO IGO 6A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381400" y="1967040"/>
            <a:ext cx="4381200" cy="2923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HISTÒRIA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ffffff"/>
                </a:solidFill>
                <a:latin typeface="Arial"/>
              </a:rPr>
              <a:t>Des de fa 2.500 anys: cartaginesos, àrabs, berebers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ffffff"/>
                </a:solidFill>
                <a:latin typeface="Arial"/>
              </a:rPr>
              <a:t>Portugal va ser el primer país europeu que va apoderar-se de Gàmb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ffffff"/>
                </a:solidFill>
                <a:latin typeface="Arial"/>
              </a:rPr>
              <a:t>Al 1588 la va vendre als angles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ffffff"/>
                </a:solidFill>
                <a:latin typeface="Arial"/>
              </a:rPr>
              <a:t>Al segle XIX : 3 milions d’esclaus a Amèrica (Gàmbia i Seneg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4076640"/>
            <a:ext cx="3600360" cy="269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200" spc="-1" strike="noStrike">
                <a:solidFill>
                  <a:srgbClr val="ffffff"/>
                </a:solidFill>
                <a:latin typeface="Arial"/>
              </a:rPr>
              <a:t>Al 1970 va aconseguir ser independent amb Dawda  Jawara  com a  primer Preside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Al 1996, Yahya Jamme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va guanyar les elecc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3284640"/>
            <a:ext cx="2381400" cy="24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DESCRIPCIÓ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ÉS EL PAÍS MÉS PETIT D’ÀF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NO TÉ MUNTANYES, ES P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É UN RI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O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MPORTANT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IU GÀMB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É 1.100 K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3 Imagen" descr="RIU.jpg"/>
          <p:cNvPicPr/>
          <p:nvPr/>
        </p:nvPicPr>
        <p:blipFill>
          <a:blip r:embed="rId1"/>
          <a:stretch/>
        </p:blipFill>
        <p:spPr>
          <a:xfrm>
            <a:off x="4140360" y="2924280"/>
            <a:ext cx="4608360" cy="349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560" y="244440"/>
            <a:ext cx="7799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cc6600"/>
                </a:solidFill>
                <a:latin typeface="Arial Black"/>
              </a:rPr>
              <a:t>GRAN PART DEL RIU ÉS NAVEGABLE I  HI VIUEN MOLTS ANIMALS</a:t>
            </a:r>
            <a:endParaRPr b="1" lang="en-US" sz="40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669600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FAUNA I VEGETACIÓ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19" name="3 Marcador de contenido" descr="cocodril.jpg"/>
          <p:cNvPicPr/>
          <p:nvPr/>
        </p:nvPicPr>
        <p:blipFill>
          <a:blip r:embed="rId1"/>
          <a:stretch/>
        </p:blipFill>
        <p:spPr>
          <a:xfrm>
            <a:off x="3214800" y="4429080"/>
            <a:ext cx="2952720" cy="2214720"/>
          </a:xfrm>
          <a:prstGeom prst="rect">
            <a:avLst/>
          </a:prstGeom>
          <a:ln w="0">
            <a:noFill/>
          </a:ln>
        </p:spPr>
      </p:pic>
      <p:sp>
        <p:nvSpPr>
          <p:cNvPr id="120" name="5 CuadroTexto"/>
          <p:cNvSpPr/>
          <p:nvPr/>
        </p:nvSpPr>
        <p:spPr>
          <a:xfrm>
            <a:off x="1750320" y="1785960"/>
            <a:ext cx="410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560 ESPÈCIES D’A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MOLTS ANIMALS SALVATGES 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XIMPANCÉS I ALTRES MONOS, COCODRI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2" descr="http://t0.gstatic.com/images?q=tbn:lpbc5QcgDINA0M:http://servicios.laverdad.es/nuestratierra/nt10102008/imag/002D5CTGP3_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57960" y="2990880"/>
            <a:ext cx="2487600" cy="1762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http://t0.gstatic.com/images?q=tbn:de8Mue5M11VBTM:http://www.franjadeponent.cat/gambia/fauna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7280" y="3078000"/>
            <a:ext cx="2657520" cy="1994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http://t0.gstatic.com/images?q=tbn:OesI52SUsmbm_M:http://farm2.static.flickr.com/1026/1348948125_44a2b124f6_m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093080" y="1197000"/>
            <a:ext cx="1008000" cy="133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cc6600"/>
                </a:solidFill>
                <a:latin typeface="Arial Black"/>
              </a:rPr>
              <a:t>MOLTS ANIMALS SALVATGES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25" name="3 Marcador de contenido" descr="ANIMAL.jpg"/>
          <p:cNvPicPr/>
          <p:nvPr/>
        </p:nvPicPr>
        <p:blipFill>
          <a:blip r:embed="rId1"/>
          <a:stretch/>
        </p:blipFill>
        <p:spPr>
          <a:xfrm>
            <a:off x="1646280" y="2211480"/>
            <a:ext cx="3190680" cy="2289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http://t1.gstatic.com/images?q=tbn:D_4xoxC-wNLvMM:http://wikifaunia.com/images/7/7c/Chimpance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14880" y="1844640"/>
            <a:ext cx="2140200" cy="2305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http://t2.gstatic.com/images?q=tbn:Te_W_8EKLY92lM:http://www.tuswallpapersgratis.com/images/wallpapers/Hipopotamo_1024x768-888373.jpe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708360" y="4506840"/>
            <a:ext cx="2735280" cy="20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1:04:32Z</dcterms:created>
  <dc:creator>mama</dc:creator>
  <dc:description/>
  <dc:language>en-US</dc:language>
  <cp:lastModifiedBy>prof</cp:lastModifiedBy>
  <dcterms:modified xsi:type="dcterms:W3CDTF">2010-01-11T14:52:23Z</dcterms:modified>
  <cp:revision>25</cp:revision>
  <dc:subject/>
  <dc:title>Diapositiva 1</dc:title>
</cp:coreProperties>
</file>